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BEF-A45C-46A8-B8DC-EBC5891D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55F-6268-41D3-910E-85F1B994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0D1-3771-4505-9047-B95B0534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0FB-7C19-45F9-BDCE-6B9AAFFD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59D-5DBC-49F5-9F85-58194688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70C0-2A1C-40A9-8915-38E24148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73F9-4F6D-4DA2-B112-8B0CDD9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9A9C-048B-41C4-8351-746990F6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773F-7EB8-4BCF-9095-65BFEEB5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1D66-6B42-4192-B1D1-651FCC6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A5CB-CA9E-45FC-87D0-B7BE1871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049-20D6-472E-A45B-190E667C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C8CA-1A03-4785-B5D2-9BA06D73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C8C5-174F-46F1-B0B0-353124D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CAAE-C44A-4053-B10D-7804A76B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84CD-ED56-4722-B462-2DC599F8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D42-DB44-416C-BF77-66124455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4A0-CDFB-46C4-B1ED-71764F3E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514-0470-44A1-A492-3B85B88B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2C1-63A9-404E-B64D-2A57E662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388-0322-4589-81D0-EF4BD108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FCE-BE3D-4D83-8019-4528CD5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92E-D898-4DB4-AFE0-646FFED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658-4469-4339-9580-057C10E4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D52A-459B-4430-85A3-DD939C971C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D9E2-9C21-4027-937B-F0A3F81256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оение атома химических элементов. Периодический закон и систем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11280" y="476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В пределах подуровня атомные орбитали заполняются одиночными электронами с параллельными спинами, и когда все орбитали данного подуровня будут заняты, происходит спаривание последни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79280" y="189000"/>
            <a:ext cx="84981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) Электроны стремятся занять энергетически выгодное положение в электронной оболочке, руководствуясь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авилом наименьшей энерг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им АО в порядке возрастания значений их энергии, которая  определяется суммой: ( № УРОВН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ло,которое соответствует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уровн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 (0), p (2), d (3),  f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39640" y="189000"/>
            <a:ext cx="8604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1     2    3     3    4     5      4      5     6    7    5     6      7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6      7     8       9            7       8      9     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 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ЯД НАИМЕНЬШЕЙ ЭНЕРГ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s 2s2p 3s3p 4s3d4p 5s4d5p 6s4f5d6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s5f6d7p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ИТИЧЕСКАЯ ДИАГРАММА РАСПОЛОЖЕНИЯ АО В ЭЛЕКТРОННОЙ ОБОЛ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энергетическая диаграмма атомных уровней и подуровней в многоэлектронном атоме"/>
          <p:cNvPicPr/>
          <p:nvPr/>
        </p:nvPicPr>
        <p:blipFill>
          <a:blip r:embed="rId1"/>
          <a:stretch/>
        </p:blipFill>
        <p:spPr>
          <a:xfrm>
            <a:off x="1979640" y="1125360"/>
            <a:ext cx="52815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ХЕМА СТРОЕНИЯ АТО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уровням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334800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АЯ ФОРМУЛА (КОНФИГУРАЦИЯ)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подуровн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О - ГРАФИЧЕСКАЯ ФОРМУЛА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7931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улировка периодического закона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.И. Менделеева 1869 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-360" y="2420640"/>
            <a:ext cx="86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войства х/э и образованных ими веществ находятся в периодической зависимости от относительных атомных масс элемент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0561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временная формулировка периодического закона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войства х/э и образованных ими веществ находятся в периодической зависимости от зарядов их атомных яде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кономерности изменения некоторых свойств химических элементов в П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1752480"/>
          <a:ext cx="9144000" cy="55612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елах пери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елах одной группы (для элементов главных подгруп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аряд ядра ат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нергетически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изменя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лектронов на внешнем энергетическом уров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изменя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диус ат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осстановительны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57520" y="1999800"/>
            <a:ext cx="33289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это частица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572080" y="3214440"/>
            <a:ext cx="22003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0,9109534*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=1,602189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К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357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2" descr=""/>
          <p:cNvPicPr/>
          <p:nvPr/>
        </p:nvPicPr>
        <p:blipFill>
          <a:blip r:embed="rId1"/>
          <a:srcRect l="1512" t="32070" r="31983" b="31205"/>
          <a:stretch/>
        </p:blipFill>
        <p:spPr>
          <a:xfrm>
            <a:off x="214200" y="0"/>
            <a:ext cx="47149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28600" y="3622680"/>
          <a:ext cx="8686800" cy="3235320"/>
        </p:xfrm>
        <a:graphic>
          <a:graphicData uri="http://schemas.openxmlformats.org/drawingml/2006/table">
            <a:tbl>
              <a:tblPr/>
              <a:tblGrid>
                <a:gridCol w="4343400"/>
                <a:gridCol w="2279520"/>
                <a:gridCol w="2063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нукл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=11,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=17,n=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лектр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=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=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нергетически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Электронная форму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ысшая степень окис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ислительно-восстановительны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исл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2" descr="Картинка 18 из 116079"/>
          <p:cNvPicPr/>
          <p:nvPr/>
        </p:nvPicPr>
        <p:blipFill>
          <a:blip r:embed="rId1"/>
          <a:stretch/>
        </p:blipFill>
        <p:spPr>
          <a:xfrm>
            <a:off x="0" y="0"/>
            <a:ext cx="2666880" cy="25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ложение элемента в ПС и строение его ат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6" descr="Картинка 9 из 2591"/>
          <p:cNvPicPr/>
          <p:nvPr/>
        </p:nvPicPr>
        <p:blipFill>
          <a:blip r:embed="rId4"/>
          <a:srcRect l="0" t="0" r="55" b="0"/>
          <a:stretch/>
        </p:blipFill>
        <p:spPr>
          <a:xfrm>
            <a:off x="5410080" y="0"/>
            <a:ext cx="3733920" cy="257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7aff"/>
                </a:solidFill>
                <a:latin typeface="Arial"/>
              </a:rPr>
              <a:t>ПЛАН ХАРАКТЕРИСТИКИ ХИМ. ЭЛЕМЕН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3581280"/>
          <a:ext cx="9144000" cy="32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Типичный металл; металлическая кристаллическая решётка; в соединениях тип связи - металлическ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Типичный неметалл; газ жёлтого цве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48" name="Picture 4" descr="Картинка 1 из 117072"/>
          <p:cNvPicPr/>
          <p:nvPr/>
        </p:nvPicPr>
        <p:blipFill>
          <a:blip r:embed="rId1"/>
          <a:stretch/>
        </p:blipFill>
        <p:spPr>
          <a:xfrm>
            <a:off x="0" y="0"/>
            <a:ext cx="4952880" cy="3581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Картинка 17 из 60692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3543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. Характер простого вещества (металл, неметалл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school.xvatit.com/images/0/07/Him7_5_5.jpg"/>
          <p:cNvPicPr/>
          <p:nvPr/>
        </p:nvPicPr>
        <p:blipFill>
          <a:blip r:embed="rId1"/>
          <a:srcRect l="58318" t="8084" r="33115" b="0"/>
          <a:stretch/>
        </p:blipFill>
        <p:spPr>
          <a:xfrm>
            <a:off x="7620120" y="0"/>
            <a:ext cx="1523880" cy="51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0" y="4876920"/>
          <a:ext cx="9144000" cy="1828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 натрия выражены сильнее, чем у лития, но слабее, по сравнению с кали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 хлора по сравнению со фтором неметаллические свойства выражены слабее, но по сравнению с бромом эти свойства выражены сильне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53" name="Picture 4" descr="http://school.xvatit.com/images/0/07/Him7_5_5.jpg"/>
          <p:cNvPicPr/>
          <p:nvPr/>
        </p:nvPicPr>
        <p:blipFill>
          <a:blip r:embed="rId2"/>
          <a:srcRect l="2160" t="0" r="84954" b="13925"/>
          <a:stretch/>
        </p:blipFill>
        <p:spPr>
          <a:xfrm>
            <a:off x="0" y="0"/>
            <a:ext cx="1676520" cy="4876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267840"/>
            <a:ext cx="6553080" cy="46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7aff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5a7aff"/>
                </a:solidFill>
                <a:latin typeface="Arial"/>
              </a:rPr>
              <a:t>. Сравнение свойств простого вещества со свойствами простых веществ, образованных соседними по подгруппе элемен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68200"/>
            <a:ext cx="9144000" cy="23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7aff"/>
                </a:solidFill>
                <a:latin typeface="Arial"/>
              </a:rPr>
              <a:t>4. Сравнение свойств простого вещества со свойствами простых веществ, образованных соседними по периоду элемен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4648320"/>
          <a:ext cx="9144000" cy="2209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 натрия выражены сильнее, чем у маг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 хлора по сравнению с серой металлические свойства выражены слабе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57" name="Picture 2" descr="Картинка 16 из 643"/>
          <p:cNvPicPr/>
          <p:nvPr/>
        </p:nvPicPr>
        <p:blipFill>
          <a:blip r:embed="rId1"/>
          <a:srcRect l="0" t="30315" r="0" b="40198"/>
          <a:stretch/>
        </p:blipFill>
        <p:spPr>
          <a:xfrm>
            <a:off x="0" y="3048120"/>
            <a:ext cx="9198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5. Формула высшего оксида и его кислотно-основные свойст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82800"/>
          <a:ext cx="9144000" cy="2108160"/>
        </p:xfrm>
        <a:graphic>
          <a:graphicData uri="http://schemas.openxmlformats.org/drawingml/2006/table">
            <a:tbl>
              <a:tblPr/>
              <a:tblGrid>
                <a:gridCol w="4408560"/>
                <a:gridCol w="473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8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сид натрия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2O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проявляет основные свойства.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му соответствует основание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Na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2HCl = 2NaCl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S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= 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ысший оксид хлор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2O7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является кислотным оксидом. Ему соответствует кислот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4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H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Na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2NaOH = 2Na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" descr="Картинка 2 из 258"/>
          <p:cNvPicPr/>
          <p:nvPr/>
        </p:nvPicPr>
        <p:blipFill>
          <a:blip r:embed="rId1"/>
          <a:stretch/>
        </p:blipFill>
        <p:spPr>
          <a:xfrm>
            <a:off x="4572000" y="403848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Картинка 1 из 736"/>
          <p:cNvPicPr/>
          <p:nvPr/>
        </p:nvPicPr>
        <p:blipFill>
          <a:blip r:embed="rId2"/>
          <a:srcRect l="0" t="0" r="57" b="0"/>
          <a:stretch/>
        </p:blipFill>
        <p:spPr>
          <a:xfrm>
            <a:off x="0" y="4071960"/>
            <a:ext cx="2971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7aff"/>
                </a:solidFill>
                <a:latin typeface="Arial"/>
              </a:rPr>
              <a:t>6. Формула высшего гидроксида, его кислотно-основные свой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882800"/>
          <a:ext cx="8229600" cy="2382840"/>
        </p:xfrm>
        <a:graphic>
          <a:graphicData uri="http://schemas.openxmlformats.org/drawingml/2006/table">
            <a:tbl>
              <a:tblPr/>
              <a:tblGrid>
                <a:gridCol w="4191120"/>
                <a:gridCol w="40384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Гидроксид натрия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 является сильным основанием и проявляет свойства , характерные для осн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 + HCl = NaCl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NaOH + CO2 = Na2CO3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NaOH + CuCl2 = Cu(OH)2 + 2Na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лорная кислот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4 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оявляет свойства сильной кисл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2 + KOH = KClO4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6" descr="Файл:Sodium-hydroxide-crystal-3D-vdW.png"/>
          <p:cNvPicPr/>
          <p:nvPr/>
        </p:nvPicPr>
        <p:blipFill>
          <a:blip r:embed="rId1"/>
          <a:stretch/>
        </p:blipFill>
        <p:spPr>
          <a:xfrm>
            <a:off x="0" y="4237200"/>
            <a:ext cx="3486240" cy="262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Картинка 6 из 5918"/>
          <p:cNvPicPr/>
          <p:nvPr/>
        </p:nvPicPr>
        <p:blipFill>
          <a:blip r:embed="rId2"/>
          <a:stretch/>
        </p:blipFill>
        <p:spPr>
          <a:xfrm>
            <a:off x="3352680" y="4241880"/>
            <a:ext cx="3276720" cy="261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://dic.academic.ru/pictures/wiki/files/112/perchloric-acid-3d-vdw.png"/>
          <p:cNvPicPr/>
          <p:nvPr/>
        </p:nvPicPr>
        <p:blipFill>
          <a:blip r:embed="rId3"/>
          <a:stretch/>
        </p:blipFill>
        <p:spPr>
          <a:xfrm>
            <a:off x="6343560" y="4267080"/>
            <a:ext cx="2800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ула летучего водородного соеди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52480"/>
          <a:ext cx="9144000" cy="213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образует летучего водородного соедин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 – </a:t>
                      </a:r>
                      <a:r>
                        <a:rPr b="1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лороводород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2" descr="Картинка 2 из 615"/>
          <p:cNvPicPr/>
          <p:nvPr/>
        </p:nvPicPr>
        <p:blipFill>
          <a:blip r:embed="rId1"/>
          <a:srcRect l="0" t="0" r="0" b="18"/>
          <a:stretch/>
        </p:blipFill>
        <p:spPr>
          <a:xfrm>
            <a:off x="4572000" y="3052800"/>
            <a:ext cx="4572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 вол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 обладает большой СКОРОСТЬЮ и ЭНЕРГИ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долю секунды электрон способен «обежать» целую область пространства, называем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4140360" y="2781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2484360" y="515772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ОЕ ОБЛАК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34000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АТОМНАЯ ОРБИТ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042920" y="-100080"/>
            <a:ext cx="7129440" cy="73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стоположение электроно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ространстве в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нный момен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ремени определить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возмож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ведут себя примерно так, как описал Льюис Кэрролл Чеширского Кота  в сказке «Алиса в стране чудес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оде бы он здесь, но в тоже время его нет, осталась лишь улыбка…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имер с фотографи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электронных обла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908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900000" y="1484280"/>
            <a:ext cx="1133640" cy="62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-,p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Picture 6" descr="image2"/>
          <p:cNvPicPr/>
          <p:nvPr/>
        </p:nvPicPr>
        <p:blipFill>
          <a:blip r:embed="rId1"/>
          <a:stretch/>
        </p:blipFill>
        <p:spPr>
          <a:xfrm>
            <a:off x="2268360" y="1197000"/>
            <a:ext cx="671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900000" y="5716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электроны атома образуют 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1409760" y="1285920"/>
            <a:ext cx="63054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286000" y="2714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АЯ ОБОЛО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ИТС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Прямоугольник 4" descr=""/>
          <p:cNvPicPr/>
          <p:nvPr/>
        </p:nvPicPr>
        <p:blipFill>
          <a:blip r:embed="rId1"/>
          <a:stretch/>
        </p:blipFill>
        <p:spPr>
          <a:xfrm>
            <a:off x="1835280" y="3144960"/>
            <a:ext cx="4492440" cy="11030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3071880" y="42148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 flipV="1" rot="10800000">
            <a:off x="2239920" y="46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468360" y="4149720"/>
            <a:ext cx="3887640" cy="2519280"/>
          </a:xfrm>
          <a:prstGeom prst="rightArrowCallout">
            <a:avLst>
              <a:gd name="adj1" fmla="val 25002"/>
              <a:gd name="adj2" fmla="val 25000"/>
              <a:gd name="adj3" fmla="val 25719"/>
              <a:gd name="adj4" fmla="val 6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284720" y="4843440"/>
            <a:ext cx="41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250920" y="476280"/>
            <a:ext cx="864216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ВИЛА ЗАПОЛНЕНИЯ ЭЛЕКТРОНАМИ АО,  ПОДУРОВНЕЙ, УРОВ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На одной АО могут находиться только ДВА электрона, которые вращаются вокруг своей оси в противоположных направлениях (по часовой стрелке и против часовой стрелке) – электроны с противоположным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н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419640" y="537372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419640" y="551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41:28Z</dcterms:created>
  <dc:creator>Шабалина Е.А.</dc:creator>
  <dc:description/>
  <dc:language>en-US</dc:language>
  <cp:lastModifiedBy>Admin</cp:lastModifiedBy>
  <dcterms:modified xsi:type="dcterms:W3CDTF">2012-12-20T11:22:15Z</dcterms:modified>
  <cp:revision>10</cp:revision>
  <dc:subject/>
  <dc:title>ЧТО ТАКОЕ</dc:title>
</cp:coreProperties>
</file>